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9E5-72EE-4415-8421-8A6D2BC1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873-34A5-44D2-99E0-0728195F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BDC1-2CF7-4E99-9206-626EF4BA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D25-EA90-4650-98F3-5925B2E5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3151-0063-4150-85EA-DF423D39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A48E-664F-4C58-A569-C2F123A8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8B7B-91C6-4B05-8379-19FF51B6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4D82-0CB8-4A1D-B2DD-F2A83775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9041-5866-493A-B986-5C39C9EA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B7D3-8E37-4184-A6E0-B34A5E08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984C-DC43-46D6-8CF2-4111101B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F79-7AA1-4922-9232-95DB0EB4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6352-53AD-45DE-9DFC-1AD915A8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22CC-1F71-4757-BB79-FC826AEF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8918-C807-4ACF-A707-3AE878DE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7C59-4A9B-45FF-846E-15A6328E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0FA7-169D-4185-B941-00D6D87B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809-A969-4233-B8BF-96C7C137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A6F-AA8B-4E50-A2C2-123EBAA2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D81-9987-41ED-9199-C3011636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0DE-82D0-4346-B817-49AEBC85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A1D4-C3D3-468E-92A4-A9DC394C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BEE-C0E0-4D75-ADE3-D2EF1A7A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F6B8-9F4B-480A-AA6A-6AC022A9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A4C3-E820-4F54-8F47-12AD0AFD8DE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6946-05E8-43F0-997A-25E52E79F44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Ak&#269;ni%20pl&#225;n.doc" TargetMode="External"/><Relationship Id="rId2" Type="http://schemas.openxmlformats.org/officeDocument/2006/relationships/hyperlink" Target="file:///P&#345;&#237;lohy%201%20-%207.doc" TargetMode="External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Implementa&#269;n&#237;%20pl&#225;n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Spole&#269;n&#233;%20stanovisko.pdf" TargetMode="Externa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Odvol&#225;v&#225;n&#237;%20&#345;editel&#367;.doc" TargetMode="Externa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Prohl&#225;&#353;en&#237;%20%20CZESHA%20k%20novele%20%20p&#345;ij&#237;mac&#237;ho%20&#345;&#237;zen&#237;.doc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Odborné školství</a:t>
            </a:r>
            <a:br>
              <a:rPr sz="66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radice a aktuální problém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uhačov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– 7. října 2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roslav Pone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kční plán podpory odborného školstv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Dokument tripart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Příloh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eloživotní vzdělá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Implementační plá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yšší odborné školy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tanovisko CZES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echnická lyce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rincipy financo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časné principy financová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Mzdy a ONIV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Financování ze státního rozpočtu</a:t>
            </a:r>
            <a:r>
              <a:rPr b="1" lang="en-US" sz="1400" spc="-1" strike="noStrike">
                <a:solidFill>
                  <a:srgbClr val="ff0066"/>
                </a:solidFill>
                <a:latin typeface="Verdana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rozpis provádějí kraje v přenesené působnosti, upraven vyhláškou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Provozní prostředk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Z prostředků kraje, v plné kompetenci kraje na základě rozpočtového určení daní (RUD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ff00"/>
                </a:solidFill>
                <a:latin typeface="Verdana"/>
              </a:rPr>
              <a:t>Výhody a nevýhody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ento systém odpovídá současnému modelu řízení školství. Jeho určitou nevýhodou je stále příliš vysoké přerozdělování na úrovni krajů, které je někdy ve prospěch, někde v neprospěch odborného školství. Oslabuje se tím princip oborových normativů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Alternativní možnost: Agregované normativy podle věkových kohort nahradit normativy podle skupin příbuzných oborů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lší návrhy v oblasti financování, odmítané A SPŠ a CZESH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Veškeré prostředky pro školství převést do RUD krajů (!!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Ztráta srovnatelného financování na oborovém principu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hloubení rozdílů mezi jednotlivými kraj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Závislost na úrovni výběru daní stanovených RU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středky pro školství přestávají být přímou součástí státního rozpočtu a předmětem kolektivního vyjednávání na úrovni centr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entrum má rozhodovat o legislativních a koncepčních otázkách, aniž má odpovědnost a nástroje k finančnímu zajištění těchto rozhodnutí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středky pro školství nejsou nijak účelově vázány a tudíž pod tlakem dalších priorit v kraj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lší návrhy v oblasti financování, odmítané A SPŠ a CZESHA -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pokračování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Do RUD krajů převést prostředky pro nepedagogické pracovníky(!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ddělení nepedagogických pracovníků z hlediska limitu jejich počtu i mzdových prostředků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pedagogičtí pracovníci nejsou jenom provozními pracovníky, ale mají bezprostřední součinnost i ve vzdělávací oblast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ICT pracovníci a provoz učeben výpočetní technik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pracovníci sekretariátů a informačních cent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pracovníci knihoven atd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atut škol a postavení ředitelů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Návrh nove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átní maturit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ostavení odborného školství v našem vzdělávacím systému a změny v posledních letech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časná situ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Ke státní maturitě v současném modelu má A SPŠ i CZESHA zásadní výhrady. Vzhledem k tomu, že státní maturita je ve školském zákoně uvedena již mnoho let, je jedinou možností státní maturitu realizovat nebo definitivně zrušit</a:t>
            </a:r>
            <a:r>
              <a:rPr b="1" lang="cs-CZ" sz="800" spc="-1" strike="noStrike">
                <a:solidFill>
                  <a:srgbClr val="ff0066"/>
                </a:solidFill>
                <a:latin typeface="Verdana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 u="sng">
                <a:solidFill>
                  <a:srgbClr val="ffff00"/>
                </a:solidFill>
                <a:uFillTx/>
                <a:latin typeface="Verdana"/>
              </a:rPr>
              <a:t>Rizika a výhrady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Současný model nerespektuje diverzitu a tradice českého středního školství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Neúnosná administrativní, organizační a finanční náročnost celého procesu, která ovšem s přijatým modelem souvisí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Dvouúrovňová státní maturita na volitelném principu úrovní neodpovídá struktuře a ambicím jednotlivých vzdělávacích programů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Časový posun v zavedení státní maturity zpochybňuje její význam,zvláště vzhledem k masovosti maturitních oborů i vzhledem k masovému přijímání na vysoké školy, jejichž kapacita je vyšší než kapacita maturitních ročníků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Zásadní termínové problémy při ukončování studia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 u="sng">
                <a:solidFill>
                  <a:srgbClr val="ffff00"/>
                </a:solidFill>
                <a:uFillTx/>
                <a:latin typeface="Verdana"/>
              </a:rPr>
              <a:t>Náš názor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V celém obludném systému se ztrácí hlavní (a možná jediný) smysl státní maturity, který jsme ochotni podpořit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Stanovit rozumné standardy výstupů ze středních škol především v oblasti všeobecně vzdělávacích předmětů a podpořit je kvalitním testovým materiálem. Stanovit moderní a obhajitelnou metodiku zkoušek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Veškerou organizaci i hodnocení státní maturity ponechat na školách!!! Regulérnost zajistit supervizí komisařem a předsedou maturitní komise</a:t>
            </a:r>
            <a:r>
              <a:rPr b="1" lang="cs-CZ" sz="1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cs-CZ" sz="1200" spc="-1" strike="noStrike">
                <a:solidFill>
                  <a:srgbClr val="ffffff"/>
                </a:solidFill>
                <a:latin typeface="Verdana"/>
              </a:rPr>
              <a:t>(přece </a:t>
            </a:r>
            <a:r>
              <a:rPr b="1" lang="cs-CZ" sz="1000" spc="-1" strike="noStrike">
                <a:solidFill>
                  <a:srgbClr val="ffffff"/>
                </a:solidFill>
                <a:latin typeface="Verdana"/>
              </a:rPr>
              <a:t>nic nového pod sluncem !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estování žáků základních škol a přijímací řízení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tanovisko CZES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33240" y="566640"/>
            <a:ext cx="78775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76320" y="38160"/>
            <a:ext cx="9296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76320" y="-61920"/>
            <a:ext cx="929664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23880" y="1014480"/>
            <a:ext cx="78962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23760" y="861840"/>
            <a:ext cx="919152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6720" y="890640"/>
            <a:ext cx="78105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7120" y="824040"/>
            <a:ext cx="842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33:43Z</dcterms:created>
  <dc:creator>ponec</dc:creator>
  <dc:description/>
  <dc:language>en-US</dc:language>
  <cp:lastModifiedBy>ponec</cp:lastModifiedBy>
  <dcterms:modified xsi:type="dcterms:W3CDTF">2010-10-05T09:58:31Z</dcterms:modified>
  <cp:revision>18</cp:revision>
  <dc:subject/>
  <dc:title>Odborné školství tradice a aktuální problémy</dc:title>
</cp:coreProperties>
</file>