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150F-5184-43A6-8B14-DA9E1260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44F3-13BA-4330-BB36-C5559FD5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8F9E-60F9-4512-88F6-DF773310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4E81-D0F1-4B30-99A8-5181F177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3611-398B-4F91-B193-BAB3E0B7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DE83-0F94-4B1F-BA30-93EA3847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4974-2920-46FB-BAD0-2AEEEF80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A0F9-2189-42F6-8E9F-A0DD8C3F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FDB6-55B9-4A4B-A8BC-BBA0F84C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66BC-296A-44C8-8D0F-4A690C3E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88FD-E67A-4E94-B329-1215F0C0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F220-EFFD-4702-91A1-B0EC7D76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77C3-2B09-4CD6-B0D3-260AEE3B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7C2C-7477-46D3-A23F-88456810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45CF-6E6C-444B-B31F-F1032315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82DC-F363-46FC-9D67-046962AF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D4FF-37BF-49E6-B662-0DDA8D46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D019-ECB1-41B5-A105-E0B8CC88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A737-980A-49F2-A1EB-5E3DDF77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3FD3-D5C6-4247-BAB1-6CF4050F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2E84-B4F5-4B96-973A-4CABD1E1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D2D7-59E0-47B1-9B7E-674EA7D7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1AB0-FFCF-4365-8C33-C38147B0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12F8-4F74-4F3D-9CF8-D22D6636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32FF-6369-420F-98F2-EF7D91BDC6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F93D-3990-40CC-A85A-81BCCC746B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zakladatelsk&#225;%20smlouva.pdf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&#345;ehled%20VH_nejd&#367;le&#382;it&#283;j&#353;&#237;%20ud&#225;losti.doc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Asociace průmyslových škol České republik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 historie Asociac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akladatelská listin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Ko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Valné hromady a nejdůležitější udál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Jak dál s Asociací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755640" y="4149720"/>
            <a:ext cx="7862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ZESHA - Unie školských asociací ČR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032360" cy="2244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881360" y="63360"/>
            <a:ext cx="5381280" cy="67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5" name=""/>
          <p:cNvGraphicFramePr/>
          <p:nvPr/>
        </p:nvGraphicFramePr>
        <p:xfrm>
          <a:off x="179280" y="620640"/>
          <a:ext cx="8964720" cy="59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20640"/>
                    <a:ext cx="8964720" cy="59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51:03Z</dcterms:created>
  <dc:creator>ponec</dc:creator>
  <dc:description/>
  <dc:language>en-US</dc:language>
  <cp:lastModifiedBy>sumbal</cp:lastModifiedBy>
  <dcterms:modified xsi:type="dcterms:W3CDTF">2010-10-05T09:41:44Z</dcterms:modified>
  <cp:revision>5</cp:revision>
  <dc:subject/>
  <dc:title>Asociace průmyslových škol České republiky</dc:title>
</cp:coreProperties>
</file>